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2.png" ContentType="image/png"/>
  <Override PartName="/ppt/media/image14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6.wmf" ContentType="image/x-wmf"/>
  <Override PartName="/ppt/media/image29.wmf" ContentType="image/x-wmf"/>
  <Override PartName="/ppt/media/image65.wmf" ContentType="image/x-wmf"/>
  <Override PartName="/ppt/media/image28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A236-FE8A-4ACF-AEFD-F52B86F8AD5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5E50-75C0-4065-988F-62653E355CF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383D-C7B7-4D9A-ADFF-A088FFE40CC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2591-A1F8-4570-9230-7CDA30BCA27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1E1A-2A7A-4CFA-A392-A8E8B455F99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D231-5645-4C94-929B-6B247582347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EA90-4095-4B2E-A19D-15AA8DDEAF9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1FB4-8FD2-4482-B4DA-A7EC2F583D0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C6A-E85A-4FCD-B5F2-631A4FAFE67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7A31-17DE-4FEF-AE9B-96B7523568C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865B-9887-430C-BC1F-1C23EE23318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BE5E-A872-447A-AED6-CFD08453295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0C46-7558-411A-BA85-65DDFE2899D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54E9-DC5F-4987-934F-B4A0583090C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96FF-E046-42DD-A2B5-FE8EF580639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4964-6859-4D48-8373-075495E41A9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7EBA-8657-4B13-A457-49224B958C2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A7C-91E5-4287-81E3-EC304441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D1D-39AF-4F36-A847-C2DDBC04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36D-C0AA-4938-96EE-4A8C83A2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96D-93E8-4003-A1C9-B3D96986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9AF8-4149-49FB-849D-A690D66D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6ECF-3A4C-47FD-853A-B9A16BCD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280B-2141-4CC1-B1DE-CA9CEAD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9E45-9B3C-4561-911E-172A49A0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F6C0-A06B-4492-AA06-B49E7214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6CBA-E63D-41F6-85CA-2353938E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D19C-38A4-4B28-8902-5F12A7C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C58-D0F4-42F1-A973-12E8B817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E122-8C11-4953-90E4-1E92553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DB74-F2EA-4C86-AF87-0B1ACEC5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711B-F747-4C24-BFE3-E457819B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666D-B632-4F9D-A850-960D7C76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BD73-D768-405B-AAA8-A0BA3AC5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8F95-E9FE-410F-ABEF-ECCC4806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5217-ADFF-4F0E-A2F3-B936FDA6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9950-BC2D-4025-B0D2-138ACD25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DC0F-B829-44E3-86B8-B088F5A9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EFE5-07E9-4E2E-85AD-303B044D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258-F60A-42D8-A975-F7898542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3A6D-D58F-4ECB-A9CB-41EA6401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3B50-7688-4298-B191-95C06261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13B8-42CF-4C4D-A6B6-19287D40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E3A9-4468-4177-AD46-B76B23B5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767D6-5000-4D98-9898-6FCCFB8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5B06-EF5F-41E9-8CD5-06E2E5AD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F68F-B0FB-4DA2-A3EF-17353421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A77A-1D5D-477F-90A1-9C925836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510B7-89B6-4A2C-AA79-74904C2B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C3E6-044B-46A3-8528-1C32AEB9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B48-09BF-4B28-B35E-0CD347F6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BD4E-F741-449B-8258-10351F90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4015B-A794-4CE2-BF29-85297267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7726-9E88-4AF9-9338-4235FC5B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A5471-104E-4B1B-B8C8-25E9CF8F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0BD94-23F9-4575-93DD-92F3EB5B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459B-1839-4FE1-A866-F7A4FE31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B691-16D3-4779-9EC2-E8C22CC4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9F149-347A-4F70-B640-3D7041E3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7DDB-818D-4220-9007-3E7D2E45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831-B485-4B7C-8451-572F3A60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1AE-468B-418C-A568-976607C6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22C-B6A8-4B89-9DB5-508299BF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825-B307-49AD-B254-22CDE58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20A-A546-4BF3-998F-554DF715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52B0-C838-4F68-94B6-29C5B8B6A0BD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7B3B-C9A9-4D01-A571-37B1CB631606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A778-5DE4-48F3-98BC-4715CFE8E227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E5F8-A037-4138-9EC0-68FF14826D12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77B9-BFB4-4DFA-B499-985D3C9E51EA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A821-0519-4E6D-AD0E-C20A8E9105AA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6D30-CF0C-4183-8F4C-B3C01D4C2047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4D08-F25D-44BE-A7F9-5E6B9142D000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17680" y="615960"/>
            <a:ext cx="7370640" cy="1004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g.398 #1,3,7,8,11-14   pg. 419 #3 (work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call: Dot Produ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find the scalar and vector projection of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0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2"/>
          <p:cNvGraphicFramePr/>
          <p:nvPr/>
        </p:nvGraphicFramePr>
        <p:xfrm>
          <a:off x="755640" y="1989000"/>
          <a:ext cx="4395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989000"/>
                    <a:ext cx="4395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3"/>
          <p:cNvGraphicFramePr/>
          <p:nvPr/>
        </p:nvGraphicFramePr>
        <p:xfrm>
          <a:off x="3492360" y="2421000"/>
          <a:ext cx="129564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421000"/>
                    <a:ext cx="1295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Find the angle that vecto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makes with the z-axis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1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5"/>
          <p:cNvGraphicFramePr/>
          <p:nvPr/>
        </p:nvGraphicFramePr>
        <p:xfrm>
          <a:off x="4500720" y="2060640"/>
          <a:ext cx="13269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060640"/>
                    <a:ext cx="13269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find the scalar and vector projection of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26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3"/>
          <p:cNvGraphicFramePr/>
          <p:nvPr/>
        </p:nvGraphicFramePr>
        <p:xfrm>
          <a:off x="755640" y="1989000"/>
          <a:ext cx="4395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989000"/>
                    <a:ext cx="4395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4"/>
          <p:cNvGraphicFramePr/>
          <p:nvPr/>
        </p:nvGraphicFramePr>
        <p:xfrm>
          <a:off x="3492360" y="2421000"/>
          <a:ext cx="129564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421000"/>
                    <a:ext cx="1295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k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 force acting on an object does work when the object moves. The work done by a force is a scalar quantity equal to the product of the distance the object is displaced and the component of the force in the direction of the displacement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36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 force,     , moves a particle from O to 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ts displacement vector i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Scalar projection of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i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42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Object 3"/>
          <p:cNvGraphicFramePr/>
          <p:nvPr/>
        </p:nvGraphicFramePr>
        <p:xfrm>
          <a:off x="1547640" y="1413000"/>
          <a:ext cx="44928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1413000"/>
                    <a:ext cx="4492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4"/>
          <p:cNvGraphicFramePr/>
          <p:nvPr/>
        </p:nvGraphicFramePr>
        <p:xfrm>
          <a:off x="4427640" y="1994040"/>
          <a:ext cx="1439640" cy="66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994040"/>
                    <a:ext cx="143964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5"/>
          <p:cNvGraphicFramePr/>
          <p:nvPr/>
        </p:nvGraphicFramePr>
        <p:xfrm>
          <a:off x="4356000" y="2997360"/>
          <a:ext cx="1419480" cy="64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2997360"/>
                    <a:ext cx="14194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6"/>
          <p:cNvGraphicFramePr/>
          <p:nvPr/>
        </p:nvGraphicFramePr>
        <p:xfrm>
          <a:off x="6227640" y="2997360"/>
          <a:ext cx="2281320" cy="71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7640" y="2997360"/>
                    <a:ext cx="22813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54" name="Straight Arrow Connector 13"/>
          <p:cNvCxnSpPr/>
          <p:nvPr/>
        </p:nvCxnSpPr>
        <p:spPr>
          <a:xfrm>
            <a:off x="2339640" y="5444640"/>
            <a:ext cx="26643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55" name="Straight Arrow Connector 15"/>
          <p:cNvCxnSpPr/>
          <p:nvPr/>
        </p:nvCxnSpPr>
        <p:spPr>
          <a:xfrm flipV="1">
            <a:off x="2338920" y="4075920"/>
            <a:ext cx="1369080" cy="1369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56" name="Straight Connector 17"/>
          <p:cNvSpPr/>
          <p:nvPr/>
        </p:nvSpPr>
        <p:spPr>
          <a:xfrm>
            <a:off x="3708360" y="4076640"/>
            <a:ext cx="0" cy="136836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7"/>
          <p:cNvGraphicFramePr/>
          <p:nvPr/>
        </p:nvGraphicFramePr>
        <p:xfrm>
          <a:off x="1908000" y="5381640"/>
          <a:ext cx="21600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5381640"/>
                    <a:ext cx="216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9"/>
          <p:cNvGraphicFramePr/>
          <p:nvPr/>
        </p:nvGraphicFramePr>
        <p:xfrm>
          <a:off x="3564000" y="5516640"/>
          <a:ext cx="287280" cy="288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64000" y="5516640"/>
                    <a:ext cx="2872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11"/>
          <p:cNvGraphicFramePr/>
          <p:nvPr/>
        </p:nvGraphicFramePr>
        <p:xfrm>
          <a:off x="2759040" y="4221000"/>
          <a:ext cx="300240" cy="37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59040" y="4221000"/>
                    <a:ext cx="300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12"/>
          <p:cNvGraphicFramePr/>
          <p:nvPr/>
        </p:nvGraphicFramePr>
        <p:xfrm>
          <a:off x="4211640" y="5516640"/>
          <a:ext cx="297000" cy="560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11640" y="5516640"/>
                    <a:ext cx="2970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3"/>
          <p:cNvGraphicFramePr/>
          <p:nvPr/>
        </p:nvGraphicFramePr>
        <p:xfrm>
          <a:off x="5076720" y="5300640"/>
          <a:ext cx="287280" cy="289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76720" y="5300640"/>
                    <a:ext cx="2872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5056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The work done by a force      , in displacing an object through </a:t>
            </a: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 is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Force is measured in Newtons, 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Distance is measured in metres, m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Work is measured in Newton-metres (Nm) = Joules (J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69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3"/>
          <p:cNvGraphicFramePr/>
          <p:nvPr/>
        </p:nvGraphicFramePr>
        <p:xfrm>
          <a:off x="4284720" y="1916280"/>
          <a:ext cx="44748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916280"/>
                    <a:ext cx="4474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4"/>
          <p:cNvGraphicFramePr/>
          <p:nvPr/>
        </p:nvGraphicFramePr>
        <p:xfrm>
          <a:off x="1692360" y="2349360"/>
          <a:ext cx="34920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349360"/>
                    <a:ext cx="3492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12"/>
          <p:cNvGraphicFramePr/>
          <p:nvPr/>
        </p:nvGraphicFramePr>
        <p:xfrm>
          <a:off x="2340000" y="3213000"/>
          <a:ext cx="189072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8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3213000"/>
                    <a:ext cx="1890720" cy="684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3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alculate the work done by a 10.N force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n moving a particle from A(2,1) to B(8,5), when the force acts at an angle of 45 degrees 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nd the distance is measured in metres.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81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Object 4"/>
          <p:cNvGraphicFramePr/>
          <p:nvPr/>
        </p:nvGraphicFramePr>
        <p:xfrm>
          <a:off x="6804000" y="1989000"/>
          <a:ext cx="37152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1989000"/>
                    <a:ext cx="3715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5"/>
          <p:cNvGraphicFramePr/>
          <p:nvPr/>
        </p:nvGraphicFramePr>
        <p:xfrm>
          <a:off x="6516720" y="3068640"/>
          <a:ext cx="57636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3068640"/>
                    <a:ext cx="5763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vecto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is the “Vector Projection of    on    “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scalar       is the “Scalar Projection of    on   “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08" name="Straight Arrow Connector 10"/>
          <p:cNvCxnSpPr/>
          <p:nvPr/>
        </p:nvCxnSpPr>
        <p:spPr>
          <a:xfrm>
            <a:off x="2916360" y="5229360"/>
            <a:ext cx="2088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12"/>
          <p:cNvCxnSpPr/>
          <p:nvPr/>
        </p:nvCxnSpPr>
        <p:spPr>
          <a:xfrm flipV="1">
            <a:off x="2915280" y="4365000"/>
            <a:ext cx="719640" cy="864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0" name="Straight Connector 14"/>
          <p:cNvSpPr/>
          <p:nvPr/>
        </p:nvSpPr>
        <p:spPr>
          <a:xfrm>
            <a:off x="3635280" y="4365720"/>
            <a:ext cx="0" cy="86364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16"/>
          <p:cNvCxnSpPr/>
          <p:nvPr/>
        </p:nvCxnSpPr>
        <p:spPr>
          <a:xfrm>
            <a:off x="2916000" y="5229360"/>
            <a:ext cx="7196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2" name="Straight Connector 18"/>
          <p:cNvSpPr/>
          <p:nvPr/>
        </p:nvSpPr>
        <p:spPr>
          <a:xfrm flipH="1">
            <a:off x="3492000" y="5084640"/>
            <a:ext cx="1429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0"/>
          <p:cNvSpPr/>
          <p:nvPr/>
        </p:nvSpPr>
        <p:spPr>
          <a:xfrm>
            <a:off x="3492360" y="5084640"/>
            <a:ext cx="0" cy="14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255600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3492360" y="5300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3564000" y="400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4788000" y="5300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10"/>
          <p:cNvGraphicFramePr/>
          <p:nvPr/>
        </p:nvGraphicFramePr>
        <p:xfrm>
          <a:off x="3132000" y="4941720"/>
          <a:ext cx="208080" cy="2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941720"/>
                    <a:ext cx="20808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11"/>
          <p:cNvGraphicFramePr/>
          <p:nvPr/>
        </p:nvGraphicFramePr>
        <p:xfrm>
          <a:off x="2916360" y="4508640"/>
          <a:ext cx="27936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4508640"/>
                    <a:ext cx="27936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2"/>
          <p:cNvGraphicFramePr/>
          <p:nvPr/>
        </p:nvGraphicFramePr>
        <p:xfrm>
          <a:off x="4140360" y="5300640"/>
          <a:ext cx="207720" cy="3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5300640"/>
                    <a:ext cx="207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5"/>
          <p:cNvGraphicFramePr/>
          <p:nvPr/>
        </p:nvGraphicFramePr>
        <p:xfrm>
          <a:off x="2050920" y="2133720"/>
          <a:ext cx="576360" cy="4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2133720"/>
                    <a:ext cx="576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6875640" y="1989000"/>
          <a:ext cx="347400" cy="59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75640" y="1989000"/>
                    <a:ext cx="3474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7596360" y="2060640"/>
          <a:ext cx="485640" cy="56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96360" y="2060640"/>
                    <a:ext cx="485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8"/>
          <p:cNvGraphicFramePr/>
          <p:nvPr/>
        </p:nvGraphicFramePr>
        <p:xfrm>
          <a:off x="2124000" y="2637000"/>
          <a:ext cx="600120" cy="57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4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24000" y="2637000"/>
                    <a:ext cx="6001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0"/>
          <p:cNvGraphicFramePr/>
          <p:nvPr/>
        </p:nvGraphicFramePr>
        <p:xfrm>
          <a:off x="6875640" y="2565360"/>
          <a:ext cx="288720" cy="54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6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5640" y="2565360"/>
                    <a:ext cx="2887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21"/>
          <p:cNvGraphicFramePr/>
          <p:nvPr/>
        </p:nvGraphicFramePr>
        <p:xfrm>
          <a:off x="7596360" y="2565360"/>
          <a:ext cx="431640" cy="60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8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6360" y="2565360"/>
                    <a:ext cx="4316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diagram derive th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ormula for the scalar projection of      on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lso Recall: Dot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o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1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43" name="Straight Arrow Connector 10"/>
          <p:cNvCxnSpPr/>
          <p:nvPr/>
        </p:nvCxnSpPr>
        <p:spPr>
          <a:xfrm>
            <a:off x="2916360" y="5877000"/>
            <a:ext cx="2088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4" name="Straight Arrow Connector 12"/>
          <p:cNvCxnSpPr/>
          <p:nvPr/>
        </p:nvCxnSpPr>
        <p:spPr>
          <a:xfrm flipV="1">
            <a:off x="2915280" y="5012640"/>
            <a:ext cx="719640" cy="864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5" name="Straight Connector 14"/>
          <p:cNvSpPr/>
          <p:nvPr/>
        </p:nvSpPr>
        <p:spPr>
          <a:xfrm>
            <a:off x="3635280" y="5013360"/>
            <a:ext cx="0" cy="86364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16"/>
          <p:cNvCxnSpPr/>
          <p:nvPr/>
        </p:nvCxnSpPr>
        <p:spPr>
          <a:xfrm>
            <a:off x="2916000" y="5877000"/>
            <a:ext cx="7196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7" name="Straight Connector 18"/>
          <p:cNvSpPr/>
          <p:nvPr/>
        </p:nvSpPr>
        <p:spPr>
          <a:xfrm flipH="1">
            <a:off x="3492000" y="5732640"/>
            <a:ext cx="1429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>
            <a:off x="3492360" y="5732640"/>
            <a:ext cx="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1"/>
          <p:cNvSpPr/>
          <p:nvPr/>
        </p:nvSpPr>
        <p:spPr>
          <a:xfrm>
            <a:off x="2484360" y="5732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2"/>
          <p:cNvSpPr/>
          <p:nvPr/>
        </p:nvSpPr>
        <p:spPr>
          <a:xfrm>
            <a:off x="341964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3492360" y="4724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478800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32000" y="5589720"/>
          <a:ext cx="208080" cy="2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5589720"/>
                    <a:ext cx="2080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3059280" y="5013360"/>
          <a:ext cx="28080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5013360"/>
                    <a:ext cx="2808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4140360" y="5950080"/>
          <a:ext cx="207720" cy="32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5950080"/>
                    <a:ext cx="2077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7"/>
          <p:cNvGraphicFramePr/>
          <p:nvPr/>
        </p:nvGraphicFramePr>
        <p:xfrm>
          <a:off x="5651640" y="2133720"/>
          <a:ext cx="29664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2133720"/>
                    <a:ext cx="296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7"/>
          <p:cNvGraphicFramePr/>
          <p:nvPr/>
        </p:nvGraphicFramePr>
        <p:xfrm>
          <a:off x="6372360" y="2133720"/>
          <a:ext cx="48564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2133720"/>
                    <a:ext cx="4856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2"/>
          <p:cNvGraphicFramePr/>
          <p:nvPr/>
        </p:nvGraphicFramePr>
        <p:xfrm>
          <a:off x="6875640" y="2133720"/>
          <a:ext cx="105696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75640" y="2133720"/>
                    <a:ext cx="10569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9"/>
          <p:cNvGraphicFramePr/>
          <p:nvPr/>
        </p:nvGraphicFramePr>
        <p:xfrm>
          <a:off x="2843280" y="2708280"/>
          <a:ext cx="2376360" cy="65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2708280"/>
                    <a:ext cx="23763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7"/>
          <p:cNvGraphicFramePr/>
          <p:nvPr/>
        </p:nvGraphicFramePr>
        <p:xfrm>
          <a:off x="920880" y="3362400"/>
          <a:ext cx="2138400" cy="1249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1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20880" y="3362400"/>
                    <a:ext cx="2138400" cy="1249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ormula for the scalar projection of      on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calar projection of     on    = Scalar projection of     on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L.S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R.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4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6"/>
          <p:cNvGraphicFramePr/>
          <p:nvPr/>
        </p:nvGraphicFramePr>
        <p:xfrm>
          <a:off x="6372360" y="1700280"/>
          <a:ext cx="296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1700280"/>
                    <a:ext cx="296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7"/>
          <p:cNvGraphicFramePr/>
          <p:nvPr/>
        </p:nvGraphicFramePr>
        <p:xfrm>
          <a:off x="5508720" y="1700280"/>
          <a:ext cx="48564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1700280"/>
                    <a:ext cx="485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12"/>
          <p:cNvGraphicFramePr/>
          <p:nvPr/>
        </p:nvGraphicFramePr>
        <p:xfrm>
          <a:off x="1127160" y="2349360"/>
          <a:ext cx="20048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27160" y="2349360"/>
                    <a:ext cx="2004840" cy="118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5" name="Object 14"/>
          <p:cNvGraphicFramePr/>
          <p:nvPr/>
        </p:nvGraphicFramePr>
        <p:xfrm>
          <a:off x="2987640" y="3860640"/>
          <a:ext cx="360360" cy="54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3860640"/>
                    <a:ext cx="3603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5"/>
          <p:cNvGraphicFramePr/>
          <p:nvPr/>
        </p:nvGraphicFramePr>
        <p:xfrm>
          <a:off x="3708360" y="3933720"/>
          <a:ext cx="35892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08360" y="3933720"/>
                    <a:ext cx="358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16"/>
          <p:cNvGraphicFramePr/>
          <p:nvPr/>
        </p:nvGraphicFramePr>
        <p:xfrm>
          <a:off x="6948360" y="3933720"/>
          <a:ext cx="424080" cy="490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0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48360" y="3933720"/>
                    <a:ext cx="424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17"/>
          <p:cNvGraphicFramePr/>
          <p:nvPr/>
        </p:nvGraphicFramePr>
        <p:xfrm>
          <a:off x="7740720" y="3933720"/>
          <a:ext cx="457200" cy="48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2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740720" y="3933720"/>
                    <a:ext cx="4572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18"/>
          <p:cNvGraphicFramePr/>
          <p:nvPr/>
        </p:nvGraphicFramePr>
        <p:xfrm>
          <a:off x="1187280" y="4508640"/>
          <a:ext cx="676440" cy="1050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4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87280" y="4508640"/>
                    <a:ext cx="6764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9"/>
          <p:cNvGraphicFramePr/>
          <p:nvPr/>
        </p:nvGraphicFramePr>
        <p:xfrm>
          <a:off x="4140360" y="4437000"/>
          <a:ext cx="1295280" cy="1944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6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40360" y="4437000"/>
                    <a:ext cx="12952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ing Direction Angles of a Vector in R</a:t>
            </a:r>
            <a:r>
              <a:rPr b="1" lang="en-CA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f    is a unit vector, then the scalar projection o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s jus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f                         then the scalar projection on the standard basis vectors            are a,b,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vector projection on the axes are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9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6"/>
          <p:cNvGraphicFramePr/>
          <p:nvPr/>
        </p:nvGraphicFramePr>
        <p:xfrm>
          <a:off x="6875640" y="2492280"/>
          <a:ext cx="129852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5640" y="2492280"/>
                    <a:ext cx="1298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4"/>
          <p:cNvGraphicFramePr/>
          <p:nvPr/>
        </p:nvGraphicFramePr>
        <p:xfrm>
          <a:off x="539640" y="2565360"/>
          <a:ext cx="42408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2565360"/>
                    <a:ext cx="424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2"/>
          <p:cNvGraphicFramePr/>
          <p:nvPr/>
        </p:nvGraphicFramePr>
        <p:xfrm>
          <a:off x="1332000" y="3068640"/>
          <a:ext cx="7189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068640"/>
                    <a:ext cx="718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3"/>
          <p:cNvGraphicFramePr/>
          <p:nvPr/>
        </p:nvGraphicFramePr>
        <p:xfrm>
          <a:off x="684360" y="3860640"/>
          <a:ext cx="1863720" cy="5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3860640"/>
                    <a:ext cx="18637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4"/>
          <p:cNvGraphicFramePr/>
          <p:nvPr/>
        </p:nvGraphicFramePr>
        <p:xfrm>
          <a:off x="2195640" y="4292640"/>
          <a:ext cx="863640" cy="59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4292640"/>
                    <a:ext cx="86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5"/>
          <p:cNvGraphicFramePr/>
          <p:nvPr/>
        </p:nvGraphicFramePr>
        <p:xfrm>
          <a:off x="5508720" y="5013360"/>
          <a:ext cx="1657080" cy="7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08720" y="5013360"/>
                    <a:ext cx="16570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Let                be the angle         makes with the positive x axis, positive y axis and positive z axis respectively. The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9"/>
          <p:cNvGraphicFramePr/>
          <p:nvPr/>
        </p:nvGraphicFramePr>
        <p:xfrm>
          <a:off x="900000" y="1700280"/>
          <a:ext cx="120024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700280"/>
                    <a:ext cx="1200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10"/>
          <p:cNvGraphicFramePr/>
          <p:nvPr/>
        </p:nvGraphicFramePr>
        <p:xfrm>
          <a:off x="3924360" y="1700280"/>
          <a:ext cx="57636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1700280"/>
                    <a:ext cx="5763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11"/>
          <p:cNvGraphicFramePr/>
          <p:nvPr/>
        </p:nvGraphicFramePr>
        <p:xfrm>
          <a:off x="2340000" y="2708280"/>
          <a:ext cx="3503520" cy="34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708280"/>
                    <a:ext cx="350352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 the direction angles that                       makes with the positive x,y and z axes respectively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1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5"/>
          <p:cNvGraphicFramePr/>
          <p:nvPr/>
        </p:nvGraphicFramePr>
        <p:xfrm>
          <a:off x="2411280" y="2781360"/>
          <a:ext cx="322920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781360"/>
                    <a:ext cx="3229200" cy="103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8" name="Object 7"/>
          <p:cNvGraphicFramePr/>
          <p:nvPr/>
        </p:nvGraphicFramePr>
        <p:xfrm>
          <a:off x="2411280" y="3909960"/>
          <a:ext cx="3168720" cy="10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909960"/>
                    <a:ext cx="3168720" cy="100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2411280" y="5013360"/>
          <a:ext cx="314352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5013360"/>
                    <a:ext cx="314352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2" name="Object 9"/>
          <p:cNvGraphicFramePr/>
          <p:nvPr/>
        </p:nvGraphicFramePr>
        <p:xfrm>
          <a:off x="5076720" y="1773360"/>
          <a:ext cx="179568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1773360"/>
                    <a:ext cx="1795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the Vector Projec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Recall: Scalar projection is    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Multiply it by a unit vector pointing along    and we will have: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Vector Projection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6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48" name="Straight Arrow Connector 10"/>
          <p:cNvCxnSpPr/>
          <p:nvPr/>
        </p:nvCxnSpPr>
        <p:spPr>
          <a:xfrm>
            <a:off x="2916360" y="5877000"/>
            <a:ext cx="2088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49" name="Straight Arrow Connector 12"/>
          <p:cNvCxnSpPr/>
          <p:nvPr/>
        </p:nvCxnSpPr>
        <p:spPr>
          <a:xfrm flipV="1">
            <a:off x="2915280" y="5012640"/>
            <a:ext cx="719640" cy="864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50" name="Straight Connector 14"/>
          <p:cNvSpPr/>
          <p:nvPr/>
        </p:nvSpPr>
        <p:spPr>
          <a:xfrm>
            <a:off x="3635280" y="5013360"/>
            <a:ext cx="0" cy="86364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Straight Arrow Connector 16"/>
          <p:cNvCxnSpPr/>
          <p:nvPr/>
        </p:nvCxnSpPr>
        <p:spPr>
          <a:xfrm>
            <a:off x="2916000" y="5877000"/>
            <a:ext cx="7196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52" name="Straight Connector 18"/>
          <p:cNvSpPr/>
          <p:nvPr/>
        </p:nvSpPr>
        <p:spPr>
          <a:xfrm flipH="1">
            <a:off x="3492000" y="5732640"/>
            <a:ext cx="1429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0"/>
          <p:cNvSpPr/>
          <p:nvPr/>
        </p:nvSpPr>
        <p:spPr>
          <a:xfrm>
            <a:off x="3492360" y="5732640"/>
            <a:ext cx="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1"/>
          <p:cNvSpPr/>
          <p:nvPr/>
        </p:nvSpPr>
        <p:spPr>
          <a:xfrm>
            <a:off x="2484360" y="5732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2"/>
          <p:cNvSpPr/>
          <p:nvPr/>
        </p:nvSpPr>
        <p:spPr>
          <a:xfrm>
            <a:off x="341964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3"/>
          <p:cNvSpPr/>
          <p:nvPr/>
        </p:nvSpPr>
        <p:spPr>
          <a:xfrm>
            <a:off x="3492360" y="4724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4"/>
          <p:cNvSpPr/>
          <p:nvPr/>
        </p:nvSpPr>
        <p:spPr>
          <a:xfrm>
            <a:off x="478800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3"/>
          <p:cNvGraphicFramePr/>
          <p:nvPr/>
        </p:nvGraphicFramePr>
        <p:xfrm>
          <a:off x="3132000" y="5589720"/>
          <a:ext cx="208080" cy="2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5589720"/>
                    <a:ext cx="2080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4"/>
          <p:cNvGraphicFramePr/>
          <p:nvPr/>
        </p:nvGraphicFramePr>
        <p:xfrm>
          <a:off x="3059280" y="5013360"/>
          <a:ext cx="28080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5013360"/>
                    <a:ext cx="2808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5"/>
          <p:cNvGraphicFramePr/>
          <p:nvPr/>
        </p:nvGraphicFramePr>
        <p:xfrm>
          <a:off x="4140360" y="5950080"/>
          <a:ext cx="207720" cy="32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5950080"/>
                    <a:ext cx="2077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3995640" y="2138400"/>
          <a:ext cx="64764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2138400"/>
                    <a:ext cx="647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5724360" y="2637000"/>
          <a:ext cx="508320" cy="46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2637000"/>
                    <a:ext cx="50832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13"/>
          <p:cNvGraphicFramePr/>
          <p:nvPr/>
        </p:nvGraphicFramePr>
        <p:xfrm>
          <a:off x="262080" y="3141720"/>
          <a:ext cx="8334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2080" y="3141720"/>
                    <a:ext cx="833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4"/>
          <p:cNvGraphicFramePr/>
          <p:nvPr/>
        </p:nvGraphicFramePr>
        <p:xfrm>
          <a:off x="4211640" y="3068640"/>
          <a:ext cx="1087560" cy="552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4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068640"/>
                    <a:ext cx="10875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50920" y="1557000"/>
            <a:ext cx="842472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the Vector Projection (of a on b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unit vector pointing alo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77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Straight Arrow Connector 10"/>
          <p:cNvCxnSpPr/>
          <p:nvPr/>
        </p:nvCxnSpPr>
        <p:spPr>
          <a:xfrm>
            <a:off x="5076360" y="2781360"/>
            <a:ext cx="208836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80" name="Straight Arrow Connector 12"/>
          <p:cNvCxnSpPr/>
          <p:nvPr/>
        </p:nvCxnSpPr>
        <p:spPr>
          <a:xfrm flipV="1">
            <a:off x="5076720" y="1915560"/>
            <a:ext cx="720000" cy="865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81" name="Straight Connector 14"/>
          <p:cNvSpPr/>
          <p:nvPr/>
        </p:nvSpPr>
        <p:spPr>
          <a:xfrm>
            <a:off x="5796000" y="1916280"/>
            <a:ext cx="0" cy="86508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Straight Arrow Connector 16"/>
          <p:cNvCxnSpPr/>
          <p:nvPr/>
        </p:nvCxnSpPr>
        <p:spPr>
          <a:xfrm>
            <a:off x="5076720" y="2781360"/>
            <a:ext cx="720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83" name="TextBox 21"/>
          <p:cNvSpPr/>
          <p:nvPr/>
        </p:nvSpPr>
        <p:spPr>
          <a:xfrm>
            <a:off x="4643280" y="2708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2"/>
          <p:cNvSpPr/>
          <p:nvPr/>
        </p:nvSpPr>
        <p:spPr>
          <a:xfrm>
            <a:off x="5651640" y="2852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3"/>
          <p:cNvSpPr/>
          <p:nvPr/>
        </p:nvSpPr>
        <p:spPr>
          <a:xfrm>
            <a:off x="5796000" y="1557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4"/>
          <p:cNvSpPr/>
          <p:nvPr/>
        </p:nvSpPr>
        <p:spPr>
          <a:xfrm>
            <a:off x="7020000" y="2924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3"/>
          <p:cNvGraphicFramePr/>
          <p:nvPr/>
        </p:nvGraphicFramePr>
        <p:xfrm>
          <a:off x="5219640" y="2565360"/>
          <a:ext cx="208080" cy="2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565360"/>
                    <a:ext cx="2080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5148360" y="2060640"/>
          <a:ext cx="27936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2060640"/>
                    <a:ext cx="27936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5"/>
          <p:cNvGraphicFramePr/>
          <p:nvPr/>
        </p:nvGraphicFramePr>
        <p:xfrm>
          <a:off x="6300720" y="2924280"/>
          <a:ext cx="206280" cy="3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24280"/>
                    <a:ext cx="20628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7"/>
          <p:cNvGraphicFramePr/>
          <p:nvPr/>
        </p:nvGraphicFramePr>
        <p:xfrm>
          <a:off x="1547640" y="3716280"/>
          <a:ext cx="64800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3716280"/>
                    <a:ext cx="648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7"/>
          <p:cNvGraphicFramePr/>
          <p:nvPr/>
        </p:nvGraphicFramePr>
        <p:xfrm>
          <a:off x="6516720" y="3933720"/>
          <a:ext cx="507960" cy="466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16720" y="3933720"/>
                    <a:ext cx="5079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11"/>
          <p:cNvGraphicFramePr/>
          <p:nvPr/>
        </p:nvGraphicFramePr>
        <p:xfrm>
          <a:off x="1258920" y="2205000"/>
          <a:ext cx="2106720" cy="12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58920" y="2205000"/>
                    <a:ext cx="2106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02" name="Straight Arrow Connector 38"/>
          <p:cNvCxnSpPr/>
          <p:nvPr/>
        </p:nvCxnSpPr>
        <p:spPr>
          <a:xfrm flipV="1">
            <a:off x="1908000" y="3357720"/>
            <a:ext cx="216720" cy="358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03" name="Straight Arrow Connector 40"/>
          <p:cNvCxnSpPr/>
          <p:nvPr/>
        </p:nvCxnSpPr>
        <p:spPr>
          <a:xfrm flipH="1" flipV="1">
            <a:off x="3131280" y="3572640"/>
            <a:ext cx="28836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aphicFrame>
        <p:nvGraphicFramePr>
          <p:cNvPr id="404" name="Object 13"/>
          <p:cNvGraphicFramePr/>
          <p:nvPr/>
        </p:nvGraphicFramePr>
        <p:xfrm>
          <a:off x="1403280" y="4838760"/>
          <a:ext cx="3240000" cy="15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5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03280" y="4838760"/>
                    <a:ext cx="3240000" cy="1574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14T02:59:26Z</dcterms:modified>
  <cp:revision>263</cp:revision>
  <dc:subject/>
  <dc:title>2.2 Derivatives of Polynomial Functions</dc:title>
</cp:coreProperties>
</file>